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9F57-0412-47CA-812D-45F095087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862-AFAB-4C8B-AFB1-E9E334F5A0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5B1-F18B-450D-956A-B621D16E01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58A7-CA2C-48E9-94BC-E98A2A1786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D16E-9EB2-4C78-AC57-BB3CDA339F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A7F-5B88-44A4-A7C4-85B1493A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506-609F-4D5B-A44A-950A6147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E3E-3E01-424E-AD38-0A13DB81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92C-136E-4631-AA46-1A80F4CA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18BC0-CC64-4191-9127-228FE5A3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0F70A-5F73-4472-892C-B5FC0DD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2228C-7669-4DBC-9DA4-3B7561A1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BB0DC-4C66-4C1A-A01A-5646934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2A2BA-9D16-4108-A232-6BA9467B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B3F4-D4E6-445A-B7BD-9E8DD671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1F2E-227A-46E2-B74A-5ADE69AD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479-78F5-4A14-B613-7EE101B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5968-D73F-4C01-A3BB-90C2E73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ECC76-89A7-474C-85A5-A358A9C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44F1-7885-4359-BC36-CD3B182B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F0868-A3DF-4477-9C5E-1D9EC82A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A01A4-B89A-429E-84D5-2B658A6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530-9807-4064-9D9A-F719FC7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57E-2B6C-463C-9A5F-3F1204BC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475-E500-4A5B-8BF5-C59B404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AA0-CF78-4DB1-B428-C18943E2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7A0-47F5-493F-B910-9D73FF3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483-D251-4647-95C0-B9FF27B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47B-1326-4036-BEB2-485D56E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87D0-9EEA-4F6D-B10D-A04EBA46C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764-0398-4159-9C49-9F6FB9944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1844640"/>
            <a:ext cx="7391160" cy="2232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истема оплаты стационарной помощи в 2014 году в Волгоградской обла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29200" y="5373360"/>
            <a:ext cx="501480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Отдел формирования и мониторинга программы ОМ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для случаев, не относящихся к родоразрешению или искусственному аборту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371600"/>
          <a:ext cx="8229600" cy="5342040"/>
        </p:xfrm>
        <a:graphic>
          <a:graphicData uri="http://schemas.openxmlformats.org/drawingml/2006/table">
            <a:tbl>
              <a:tblPr/>
              <a:tblGrid>
                <a:gridCol w="1758960"/>
                <a:gridCol w="3954600"/>
                <a:gridCol w="2516040"/>
              </a:tblGrid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Опера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Номер КС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Пластика шейки м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тазового д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Реконструкция влагалищ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Зашивание разрыва влагалища в промеж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5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Зашивание разрыва шейки мат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вульвы и промеж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Наложение швов на шейку мат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осстановление влагалищной стен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20.0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Вакуум-аспирация эндомет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Диагностика онкологического заболевания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КСГ 20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143000"/>
          <a:ext cx="8229600" cy="5486040"/>
        </p:xfrm>
        <a:graphic>
          <a:graphicData uri="http://schemas.openxmlformats.org/drawingml/2006/table">
            <a:tbl>
              <a:tblPr/>
              <a:tblGrid>
                <a:gridCol w="1600200"/>
                <a:gridCol w="6629400"/>
              </a:tblGrid>
              <a:tr h="708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слюнной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тонкого кишечн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ануса и анального кана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поджелудочной желе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печ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03.027.0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 исследований для диагностики злокачественных новообразований желчного пузыря и желчевыводящих пут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Группы с дополнительными критериями форм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1905120"/>
          <a:ext cx="8077320" cy="1549440"/>
        </p:xfrm>
        <a:graphic>
          <a:graphicData uri="http://schemas.openxmlformats.org/drawingml/2006/table">
            <a:tbl>
              <a:tblPr/>
              <a:tblGrid>
                <a:gridCol w="998640"/>
                <a:gridCol w="5900760"/>
                <a:gridCol w="588960"/>
                <a:gridCol w="588960"/>
              </a:tblGrid>
              <a:tr h="444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5.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ЙНОГО ОТДЕЛА ПИЩЕВОДА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5.1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ДНОГО ОТДЕЛА ПИЩЕВОДА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1 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ШИБ НАРУЖНЫХ ПОЛОВЫХ ОРГА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3520" y="3809880"/>
          <a:ext cx="8001000" cy="639720"/>
        </p:xfrm>
        <a:graphic>
          <a:graphicData uri="http://schemas.openxmlformats.org/drawingml/2006/table">
            <a:tbl>
              <a:tblPr/>
              <a:tblGrid>
                <a:gridCol w="1295280"/>
                <a:gridCol w="5562720"/>
                <a:gridCol w="620640"/>
                <a:gridCol w="522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09.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Удаление новообразования легкого (атипичная резек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" y="4800600"/>
          <a:ext cx="8153280" cy="639720"/>
        </p:xfrm>
        <a:graphic>
          <a:graphicData uri="http://schemas.openxmlformats.org/drawingml/2006/table">
            <a:tbl>
              <a:tblPr/>
              <a:tblGrid>
                <a:gridCol w="1371600"/>
                <a:gridCol w="4141800"/>
                <a:gridCol w="620640"/>
                <a:gridCol w="698400"/>
                <a:gridCol w="622440"/>
                <a:gridCol w="698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A16.12.05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Эндоваскулярная эмболизация сосу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1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Дополнительные крите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д диагноза (при основном критерии группировки – код услуги Номенклатуры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д услуги Номенклатуры (при основном критерии группировки – код диагноза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озра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возра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возра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услуга - диагноз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254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d"/>
                </a:solidFill>
                <a:latin typeface="Tahoma"/>
              </a:rPr>
              <a:t>Дополнительные критерии (по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Объект 3" descr=""/>
          <p:cNvPicPr/>
          <p:nvPr/>
        </p:nvPicPr>
        <p:blipFill>
          <a:blip r:embed="rId1"/>
          <a:stretch/>
        </p:blipFill>
        <p:spPr>
          <a:xfrm>
            <a:off x="457200" y="804960"/>
            <a:ext cx="822960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полнение полей реестра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исьмо «ТФОМС Волгоградской области» от 02.12 2013 №12-20-830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)</a:t>
            </a:r>
            <a:br>
              <a:rPr sz="1800"/>
            </a:b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73"/>
                </a:solidFill>
                <a:latin typeface="Tahoma"/>
              </a:rPr>
              <a:t>В разделе «Сведения о случае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Условия оказания медицинской помощи» «1» – стационарны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Вид помощи» «31» – специализированная медицинская помощь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2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д МЭС» - 175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Результат обращения (госпитализации)» - выписан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Исход заболевания» - улучш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лечащего врача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д способа оплаты медицинской помощи» - «16» – клинико-статистические групп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единиц оплаты медицинской помощи» «1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заполняется в соответствии со Справочником тариф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Заполнение полей реес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73"/>
                </a:solidFill>
                <a:latin typeface="Tahoma"/>
              </a:rPr>
              <a:t>В разделе «Сведения об услуге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.11.1 койко-день для учета объемов оказанной помощи в стациона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07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6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хирур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.11.1 койко-день для учета объемов оказанной помощи в стациона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Профиль» - «терап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начала лечения» 07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ата окончания лечения» 21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терапев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Основные понят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линико-статистическая группа заболеваний (КСГ) – группа заболеваний, относящихся к одному профилю стационарной медицинской помощи и сходных по используемым методам диагностики и лечения пациентов и средней ресурсоемкости (стоимость, структура затрат и набор используемых  ресур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ченный случай госпитализации – это оказание пациенту в одной медицинской организации стационарной медицинской помощи от момента поступления до момента выбытия, включая пребывание в нескольких профильных отделениях и все операции, выполненные в этот период време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Заполнение полей реес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73"/>
                </a:solidFill>
                <a:latin typeface="Tahoma"/>
              </a:rPr>
              <a:t>В разделе «Сведения об услуге» (продолжени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А16.16.021 Ушивание язвы желудка или двенадцатиперстной киш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Профиль» - «хирургия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ата начала лечения» 02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ата окончания лечения» 02.01.2014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Диагноз основной» - К26.2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Количество оказанных услуг» -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Тариф» - 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Специальность медработника, выполнившего услугу» - хирур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Тариф = 1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5000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руб * 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70 * 0,97585 * 1,0 = 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15662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10173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ру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Кодировка тарифа КС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UVRXXX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U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код условия оказания медицинской помощ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ответствует коду из «Классификатора условий оказания медицинской помощи» V006 и принимает знач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руглосуточный стациона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невной стационар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мбулаторная помощ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4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корая медицинская помощ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V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- тип клинико-статистической группы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принимает знач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терапевтических групп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хирургических групп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комбинированных групп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R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- способ лечен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 -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циализированное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лечени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 -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Высокотехнологичное лечение в ОМ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 Реабилитац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XXX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Х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- номер КСГ в рекомендациях Министерства здравоохранения РФ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с 0001 по 0201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209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Благодарю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за вним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Подзаголовок 2"/>
          <p:cNvSpPr/>
          <p:nvPr/>
        </p:nvSpPr>
        <p:spPr>
          <a:xfrm>
            <a:off x="4129200" y="5373720"/>
            <a:ext cx="5014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965160" y="399960"/>
            <a:ext cx="1087560" cy="10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сновные нормативные докумен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Рекомендации по способам оплаты специализированной медицинской помощи в стационарных условиях и в дневных стационарах на основе групп заболеваний, в том числе клинико-статистических групп (КСГ) и клинико-профильных групп (КПГ) за счет средств системы обязательного медицинского страхования» (утв. Письмом МЗ РФ от 11.11.2013 №66-0/10/2-8405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Инструкция по группировке случаев заболеваний в КСГ» (утв. Приказом ФФОМС от 14.11.2013 №22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риказ МЗ РФ от 10.12.2013 №916н «О перечне видов высокотехнологичной медицинской помощ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Письмо «ТФОМС Волгоградской области» от 02.12 2013 №12-20-830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О формировании Реестров сведений (счетов) при использовании способа оплаты стационарной медицинской помощи за законченный случай госпитализации, входящий в клинико-статистическую групп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равочник КС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2"/>
          <a:stretch/>
        </p:blipFill>
        <p:spPr>
          <a:xfrm>
            <a:off x="444600" y="1908000"/>
            <a:ext cx="833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4"/>
          <p:cNvSpPr/>
          <p:nvPr/>
        </p:nvSpPr>
        <p:spPr>
          <a:xfrm>
            <a:off x="3851280" y="260280"/>
            <a:ext cx="165744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73"/>
                </a:solidFill>
                <a:latin typeface="Tahoma"/>
              </a:rPr>
              <a:t>К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066680"/>
            <a:ext cx="2284200" cy="561960"/>
          </a:xfrm>
          <a:prstGeom prst="rect">
            <a:avLst/>
          </a:prstGeom>
          <a:solidFill>
            <a:srgbClr val="f1c7da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Терапевт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6588000" y="1066680"/>
            <a:ext cx="2087640" cy="561960"/>
          </a:xfrm>
          <a:prstGeom prst="rect">
            <a:avLst/>
          </a:prstGeom>
          <a:solidFill>
            <a:srgbClr val="92d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Хирургическ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7"/>
          <p:cNvSpPr/>
          <p:nvPr/>
        </p:nvSpPr>
        <p:spPr>
          <a:xfrm>
            <a:off x="539640" y="1700280"/>
            <a:ext cx="2087640" cy="122400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Заболевания (МКБ-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6732720" y="1700280"/>
            <a:ext cx="2087280" cy="15001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73"/>
                </a:solidFill>
                <a:latin typeface="Tahoma"/>
              </a:rPr>
              <a:t>Услуги по номенклату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142440" y="206064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Клинически однород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ходные по ресурсоемк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Стрелка углом вверх 13"/>
          <p:cNvSpPr/>
          <p:nvPr/>
        </p:nvSpPr>
        <p:spPr>
          <a:xfrm flipV="1" rot="5400000">
            <a:off x="3459960" y="445320"/>
            <a:ext cx="711360" cy="1512720"/>
          </a:xfrm>
          <a:custGeom>
            <a:avLst/>
            <a:gdLst/>
            <a:ahLst/>
            <a:rect l="l" t="t" r="r" b="b"/>
            <a:pathLst>
              <a:path w="711200" h="1512887">
                <a:moveTo>
                  <a:pt x="0" y="1335087"/>
                </a:moveTo>
                <a:lnTo>
                  <a:pt x="444500" y="1335087"/>
                </a:lnTo>
                <a:lnTo>
                  <a:pt x="444500" y="177800"/>
                </a:lnTo>
                <a:lnTo>
                  <a:pt x="355600" y="177800"/>
                </a:lnTo>
                <a:lnTo>
                  <a:pt x="533400" y="0"/>
                </a:lnTo>
                <a:lnTo>
                  <a:pt x="711200" y="177800"/>
                </a:lnTo>
                <a:lnTo>
                  <a:pt x="622300" y="177800"/>
                </a:lnTo>
                <a:lnTo>
                  <a:pt x="622300" y="1512887"/>
                </a:lnTo>
                <a:lnTo>
                  <a:pt x="0" y="1512887"/>
                </a:lnTo>
                <a:lnTo>
                  <a:pt x="0" y="1335087"/>
                </a:lnTo>
                <a:close/>
              </a:path>
            </a:pathLst>
          </a:custGeom>
          <a:solidFill>
            <a:srgbClr val="7bff7b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Стрелка вправо 1"/>
          <p:cNvSpPr/>
          <p:nvPr/>
        </p:nvSpPr>
        <p:spPr>
          <a:xfrm>
            <a:off x="6156360" y="2152800"/>
            <a:ext cx="4316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bff7b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 rot="10800000">
            <a:off x="2705040" y="2180880"/>
            <a:ext cx="43200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bff7b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Стрелка углом вверх 15"/>
          <p:cNvSpPr/>
          <p:nvPr/>
        </p:nvSpPr>
        <p:spPr>
          <a:xfrm flipH="1" flipV="1" rot="16200000">
            <a:off x="5332320" y="446040"/>
            <a:ext cx="711360" cy="1511280"/>
          </a:xfrm>
          <a:custGeom>
            <a:avLst/>
            <a:gdLst/>
            <a:ahLst/>
            <a:rect l="l" t="t" r="r" b="b"/>
            <a:pathLst>
              <a:path w="711200" h="1511300">
                <a:moveTo>
                  <a:pt x="0" y="1333500"/>
                </a:moveTo>
                <a:lnTo>
                  <a:pt x="444500" y="1333500"/>
                </a:lnTo>
                <a:lnTo>
                  <a:pt x="444500" y="177800"/>
                </a:lnTo>
                <a:lnTo>
                  <a:pt x="355600" y="177800"/>
                </a:lnTo>
                <a:lnTo>
                  <a:pt x="533400" y="0"/>
                </a:lnTo>
                <a:lnTo>
                  <a:pt x="711200" y="177800"/>
                </a:lnTo>
                <a:lnTo>
                  <a:pt x="622300" y="177800"/>
                </a:lnTo>
                <a:lnTo>
                  <a:pt x="622300" y="1511300"/>
                </a:lnTo>
                <a:lnTo>
                  <a:pt x="0" y="1511300"/>
                </a:lnTo>
                <a:lnTo>
                  <a:pt x="0" y="1333500"/>
                </a:lnTo>
                <a:close/>
              </a:path>
            </a:pathLst>
          </a:custGeom>
          <a:solidFill>
            <a:srgbClr val="7bff7b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752480" y="4191120"/>
            <a:ext cx="571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спертная коррекция коэффициентов относитель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тратоемкост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нико-статистических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груп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ление операций по уровням (сложность, затратоемкост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2895480" y="32004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комендовано МЗ РФ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7588080" y="5410080"/>
            <a:ext cx="108756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Заголовок 6"/>
          <p:cNvSpPr/>
          <p:nvPr/>
        </p:nvSpPr>
        <p:spPr>
          <a:xfrm>
            <a:off x="2133720" y="-171360"/>
            <a:ext cx="50292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Расчет стоимости случ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" name="Скругленный прямоугольник 2"/>
          <p:cNvGrpSpPr/>
          <p:nvPr/>
        </p:nvGrpSpPr>
        <p:grpSpPr>
          <a:xfrm>
            <a:off x="768240" y="3054240"/>
            <a:ext cx="7534440" cy="914400"/>
            <a:chOff x="768240" y="3054240"/>
            <a:chExt cx="7534440" cy="914400"/>
          </a:xfrm>
        </p:grpSpPr>
        <p:pic>
          <p:nvPicPr>
            <p:cNvPr id="11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68240" y="3054240"/>
              <a:ext cx="7534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60400" y="3122640"/>
              <a:ext cx="734868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Базовый тариф КСГ = БС х К</a:t>
              </a:r>
              <a:r>
                <a:rPr b="1" lang="ru-RU" sz="1400" spc="-1" strike="noStrike">
                  <a:solidFill>
                    <a:srgbClr val="000010"/>
                  </a:solidFill>
                  <a:latin typeface="Arial"/>
                  <a:ea typeface="Arial"/>
                </a:rPr>
                <a:t>затр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Скругленный прямоугольник 4"/>
          <p:cNvSpPr/>
          <p:nvPr/>
        </p:nvSpPr>
        <p:spPr>
          <a:xfrm>
            <a:off x="1792440" y="609480"/>
            <a:ext cx="544644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a5a5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  <a:ea typeface="Arial"/>
              </a:rPr>
              <a:t>Случай с операци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Скругленный прямоугольник 10"/>
          <p:cNvSpPr/>
          <p:nvPr/>
        </p:nvSpPr>
        <p:spPr>
          <a:xfrm>
            <a:off x="860400" y="1600200"/>
            <a:ext cx="3178080" cy="838080"/>
          </a:xfrm>
          <a:prstGeom prst="roundRect">
            <a:avLst>
              <a:gd name="adj" fmla="val 16667"/>
            </a:avLst>
          </a:prstGeom>
          <a:solidFill>
            <a:srgbClr val="f1c7da"/>
          </a:solidFill>
          <a:ln w="9360">
            <a:solidFill>
              <a:srgbClr val="00c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ду диагноза МКБ определение терапевтической груп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Скругленный прямоугольник 11"/>
          <p:cNvSpPr/>
          <p:nvPr/>
        </p:nvSpPr>
        <p:spPr>
          <a:xfrm>
            <a:off x="4906800" y="1600200"/>
            <a:ext cx="3246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 коду услуги по номенклатуре определение хирургической групп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Стрелка вниз 6"/>
          <p:cNvGrpSpPr/>
          <p:nvPr/>
        </p:nvGrpSpPr>
        <p:grpSpPr>
          <a:xfrm>
            <a:off x="1700280" y="1116000"/>
            <a:ext cx="1274760" cy="603360"/>
            <a:chOff x="1700280" y="1116000"/>
            <a:chExt cx="1274760" cy="603360"/>
          </a:xfrm>
        </p:grpSpPr>
        <p:pic>
          <p:nvPicPr>
            <p:cNvPr id="121" name="Стрелка вниз 6" descr=""/>
            <p:cNvPicPr/>
            <p:nvPr/>
          </p:nvPicPr>
          <p:blipFill>
            <a:blip r:embed="rId3"/>
            <a:stretch/>
          </p:blipFill>
          <p:spPr>
            <a:xfrm>
              <a:off x="1700280" y="1116000"/>
              <a:ext cx="12747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046240" y="1238400"/>
              <a:ext cx="582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нет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Стрелка вниз 9"/>
          <p:cNvGrpSpPr/>
          <p:nvPr/>
        </p:nvGrpSpPr>
        <p:grpSpPr>
          <a:xfrm>
            <a:off x="5950080" y="1116000"/>
            <a:ext cx="1285920" cy="596880"/>
            <a:chOff x="5950080" y="1116000"/>
            <a:chExt cx="1285920" cy="596880"/>
          </a:xfrm>
        </p:grpSpPr>
        <p:pic>
          <p:nvPicPr>
            <p:cNvPr id="124" name="Стрелка вниз 9" descr=""/>
            <p:cNvPicPr/>
            <p:nvPr/>
          </p:nvPicPr>
          <p:blipFill>
            <a:blip r:embed="rId4"/>
            <a:stretch/>
          </p:blipFill>
          <p:spPr>
            <a:xfrm>
              <a:off x="5950080" y="1116000"/>
              <a:ext cx="1285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297480" y="1236600"/>
              <a:ext cx="590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да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6" name="Стрелка вниз 20"/>
          <p:cNvGrpSpPr/>
          <p:nvPr/>
        </p:nvGrpSpPr>
        <p:grpSpPr>
          <a:xfrm>
            <a:off x="1700280" y="2511360"/>
            <a:ext cx="1274760" cy="549360"/>
            <a:chOff x="1700280" y="2511360"/>
            <a:chExt cx="1274760" cy="549360"/>
          </a:xfrm>
        </p:grpSpPr>
        <p:pic>
          <p:nvPicPr>
            <p:cNvPr id="127" name="Стрелка вниз 20" descr=""/>
            <p:cNvPicPr/>
            <p:nvPr/>
          </p:nvPicPr>
          <p:blipFill>
            <a:blip r:embed="rId5"/>
            <a:stretch/>
          </p:blipFill>
          <p:spPr>
            <a:xfrm>
              <a:off x="1700280" y="2511360"/>
              <a:ext cx="1274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046240" y="2543040"/>
              <a:ext cx="582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Стрелка вниз 21"/>
          <p:cNvGrpSpPr/>
          <p:nvPr/>
        </p:nvGrpSpPr>
        <p:grpSpPr>
          <a:xfrm>
            <a:off x="5986440" y="2517840"/>
            <a:ext cx="1328760" cy="542880"/>
            <a:chOff x="5986440" y="2517840"/>
            <a:chExt cx="1328760" cy="542880"/>
          </a:xfrm>
        </p:grpSpPr>
        <p:pic>
          <p:nvPicPr>
            <p:cNvPr id="130" name="Стрелка вниз 21" descr=""/>
            <p:cNvPicPr/>
            <p:nvPr/>
          </p:nvPicPr>
          <p:blipFill>
            <a:blip r:embed="rId6"/>
            <a:stretch/>
          </p:blipFill>
          <p:spPr>
            <a:xfrm>
              <a:off x="5986440" y="2517840"/>
              <a:ext cx="13287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345360" y="2548080"/>
              <a:ext cx="608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2" name="Скругленный прямоугольник 2"/>
          <p:cNvGrpSpPr/>
          <p:nvPr/>
        </p:nvGrpSpPr>
        <p:grpSpPr>
          <a:xfrm>
            <a:off x="768240" y="4956120"/>
            <a:ext cx="7534440" cy="914400"/>
            <a:chOff x="768240" y="4956120"/>
            <a:chExt cx="7534440" cy="914400"/>
          </a:xfrm>
        </p:grpSpPr>
        <p:pic>
          <p:nvPicPr>
            <p:cNvPr id="133" name="Скругленный прямоугольник 2" descr=""/>
            <p:cNvPicPr/>
            <p:nvPr/>
          </p:nvPicPr>
          <p:blipFill>
            <a:blip r:embed="rId7"/>
            <a:stretch/>
          </p:blipFill>
          <p:spPr>
            <a:xfrm>
              <a:off x="768240" y="4956120"/>
              <a:ext cx="7534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60400" y="5027760"/>
              <a:ext cx="7348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Тариф КСГ для МО = БТ КСГ </a:t>
              </a:r>
              <a:r>
                <a:rPr b="1" lang="ru-RU" sz="1800" spc="-1" strike="noStrike">
                  <a:solidFill>
                    <a:srgbClr val="000010"/>
                  </a:solidFill>
                  <a:latin typeface="Tahoma"/>
                </a:rPr>
                <a:t>х </a:t>
              </a:r>
              <a:r>
                <a:rPr b="1" lang="ru-RU" sz="3200" spc="-1" strike="noStrike">
                  <a:solidFill>
                    <a:srgbClr val="000010"/>
                  </a:solidFill>
                  <a:latin typeface="Arial"/>
                </a:rPr>
                <a:t>к</a:t>
              </a:r>
              <a:r>
                <a:rPr b="1" lang="ru-RU" sz="1400" spc="-1" strike="noStrike">
                  <a:solidFill>
                    <a:srgbClr val="000010"/>
                  </a:solidFill>
                  <a:latin typeface="Tahoma"/>
                </a:rPr>
                <a:t>упр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000010"/>
                  </a:solidFill>
                  <a:latin typeface="Arial"/>
                  <a:ea typeface="Arial"/>
                </a:rPr>
                <a:t>х К</a:t>
              </a:r>
              <a:r>
                <a:rPr b="1" lang="ru-RU" sz="1400" spc="-1" strike="noStrike">
                  <a:solidFill>
                    <a:srgbClr val="000010"/>
                  </a:solidFill>
                  <a:latin typeface="Tahoma"/>
                </a:rPr>
                <a:t>груп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Стрелка вниз 16"/>
          <p:cNvGrpSpPr/>
          <p:nvPr/>
        </p:nvGrpSpPr>
        <p:grpSpPr>
          <a:xfrm>
            <a:off x="3852720" y="4133880"/>
            <a:ext cx="1328760" cy="547560"/>
            <a:chOff x="3852720" y="4133880"/>
            <a:chExt cx="1328760" cy="547560"/>
          </a:xfrm>
        </p:grpSpPr>
        <p:pic>
          <p:nvPicPr>
            <p:cNvPr id="136" name="Стрелка вниз 16" descr=""/>
            <p:cNvPicPr/>
            <p:nvPr/>
          </p:nvPicPr>
          <p:blipFill>
            <a:blip r:embed="rId8"/>
            <a:stretch/>
          </p:blipFill>
          <p:spPr>
            <a:xfrm>
              <a:off x="3852720" y="4133880"/>
              <a:ext cx="13287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211640" y="4164120"/>
              <a:ext cx="6080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8" name="Picture 4" descr=""/>
          <p:cNvPicPr/>
          <p:nvPr/>
        </p:nvPicPr>
        <p:blipFill>
          <a:blip r:embed="rId9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Алгоритм отнесения случая госпитализации к КС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486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72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имер отнесения случая к КС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066320"/>
            <a:ext cx="4343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14.01.2014 лечение в хирургическом отделении мужчины 35 лет по поводу острой язвы двенадцатиперстной кишки с кровотечением и прободением (К26.2). Проведена операция ушивания язвы двенадцатиперстной кишки (А16.16.021)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07.01.2014 лечение в хирургическом отделении мужчины 35 лет по поводу острой язвы двенадцатиперстной кишки с кровотечением (К26.0) Операция не проводилась. Переведен в терапевтическое отделение, Лечение с 07.01.2014 по 18.01.2014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ahoma"/>
              </a:rPr>
              <a:t>С 01.01.2014 по 07.01.2014 лечение в хирургическом отделении мужчины 35 лет по поводу острой язвы двенадцатиперстной кишки с кровотечением и прободением (К26.2). Проведена операция ушивания язвы двенадцатиперстной кишки (А16.16.021). Переведен в терапевтическое отделение с 07.01.2014 по 21.01.2014. Выписан на амбулаторный этап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43400" y="1905120"/>
          <a:ext cx="4648320" cy="1904760"/>
        </p:xfrm>
        <a:graphic>
          <a:graphicData uri="http://schemas.openxmlformats.org/drawingml/2006/table">
            <a:tbl>
              <a:tblPr/>
              <a:tblGrid>
                <a:gridCol w="525600"/>
                <a:gridCol w="2895480"/>
                <a:gridCol w="612720"/>
                <a:gridCol w="6145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ва желудка и двенадцатиперстной киш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10173"/>
                          </a:solidFill>
                          <a:latin typeface="Times New Roman"/>
                        </a:rPr>
                        <a:t>Операции на пищеводе, желудке, двенадцатиперстной кишке (уровень затрат 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Х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собенности формирования КСГ акушерско-гинекологического профиля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10"/>
                </a:solidFill>
                <a:latin typeface="Tahoma"/>
              </a:rPr>
              <a:t>Исключены из основного критерия группиров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A16.20.005.001 Расширение шеечного ка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0 Наложение акушерских щипц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1 Вакуум-экстракция 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1.001 Экстракция плода за тазовый коне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 Ручное пособие при тазовом предлежании плода (по Цовьянову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1 Поворот плода за нож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2 Классическое ручное пособие при тазовом предлежании пл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 Наложение гемостатических компрессионных швов (</a:t>
            </a: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B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lunch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.001 Наложение клемм по Бакшее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6.002 Наложение клемм по Генкелю-Тиканад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7 Установка внутриматочного балл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10"/>
                </a:solidFill>
                <a:latin typeface="Tahoma"/>
              </a:rPr>
              <a:t>A</a:t>
            </a:r>
            <a:r>
              <a:rPr b="0" lang="ru-RU" sz="2000" spc="-1" strike="noStrike">
                <a:solidFill>
                  <a:srgbClr val="000010"/>
                </a:solidFill>
                <a:latin typeface="Tahoma"/>
              </a:rPr>
              <a:t>16.20.073.003 Ручное отделение плаценты и выделение после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Video</dc:creator>
  <dc:description/>
  <dc:language>en-US</dc:language>
  <cp:lastModifiedBy>TAleksandrova</cp:lastModifiedBy>
  <dcterms:modified xsi:type="dcterms:W3CDTF">2013-12-20T06:37:5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